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83C-5866-4CEB-983E-7493497D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9B5-B1DD-491C-8750-22344DE1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23E-1EF1-4E01-A1C7-67E1BF59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FD8-FF4B-4A9A-B6F9-F90248EE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A0E-B3DB-4686-8643-CA38A77C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867-3E4F-48A8-982C-304A7E53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C56-8C04-453D-9821-6443A9B6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A86-2E92-48ED-BA8B-1AEE072C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AB0-9243-47A2-84DA-A899A7C0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BB7-60A7-4A4C-8F42-220157CB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F5E-7728-47A5-B2D2-35568182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E63-4323-4B82-805A-BA9F3FDA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33DC-2929-4912-899D-A23CB18686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UF 11 – poglądowa mapa „Blue Zon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lue zon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lue zone” – oznaczona kolorem niebiesk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Users\wojciech_porczyk\Desktop\PRZETARGI\LOGISTYKA\SOPZ - konspekt\ZALACZNIKI\Do SOPZ\mapy\Mapa Strefa Blue Zone WUF 11_punkt kontrolny.png"/>
          <p:cNvPicPr/>
          <p:nvPr/>
        </p:nvPicPr>
        <p:blipFill>
          <a:blip r:embed="rId1"/>
          <a:stretch/>
        </p:blipFill>
        <p:spPr>
          <a:xfrm>
            <a:off x="1042920" y="1089000"/>
            <a:ext cx="74660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4:37:43Z</dcterms:created>
  <dc:creator>Pniak Janusz</dc:creator>
  <dc:description/>
  <dc:language>en-US</dc:language>
  <cp:lastModifiedBy>Wojciech Porczyk</cp:lastModifiedBy>
  <dcterms:modified xsi:type="dcterms:W3CDTF">2021-07-13T14:39:44Z</dcterms:modified>
  <cp:revision>17</cp:revision>
  <dc:subject/>
  <dc:title>Internet Governance Forum 20202</dc:title>
</cp:coreProperties>
</file>